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3D1-7CFC-46BF-A90D-33CC8D6D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222-17D0-4FD7-A7A7-0B9387B5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E75-A201-4795-9C3C-4B926734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49B-5B58-46CA-A1D7-24D558E9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905-3905-4788-8313-6DEE68B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700-1D66-46BD-9810-648E9261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392-7FDD-4934-9DCC-22135A2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E8B-1DA6-4255-A3A4-457EF1E8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97C-ED04-49D3-A8B9-45B1D1B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727-3D30-4C61-A0BA-22F74EC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506-8F9F-4FF8-BDBA-82239C0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6D4-7B21-4D4A-A06F-985E8D7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7F1A-1185-408E-B595-E444E831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seumsyndicate.com/item.php?item=5232" TargetMode="External"/><Relationship Id="rId2" Type="http://schemas.openxmlformats.org/officeDocument/2006/relationships/hyperlink" Target="http://www.museumsyndicate.com/item.php?item=5232" TargetMode="External"/><Relationship Id="rId3" Type="http://schemas.openxmlformats.org/officeDocument/2006/relationships/hyperlink" Target="http://www.museumsyndicate.com/item.php?item=5232" TargetMode="External"/><Relationship Id="rId4" Type="http://schemas.openxmlformats.org/officeDocument/2006/relationships/hyperlink" Target="http://www.museumsyndicate.com/item.php?item=5232" TargetMode="External"/><Relationship Id="rId5" Type="http://schemas.openxmlformats.org/officeDocument/2006/relationships/hyperlink" Target="http://www.museumsyndicate.com/item.php?item=5232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to Accompan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hension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61840" y="60958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Holly Dai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utting this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for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o Players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store.encore-editions.com/ gift/pippin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. Prejudice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useumsyndicate.com/item.php?item=5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75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irl Asleep” by Jan Verme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globalgallery.com/ enlarge/8141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4769"/>
          <a:stretch/>
        </p:blipFill>
        <p:spPr>
          <a:xfrm>
            <a:off x="2133720" y="1371600"/>
            <a:ext cx="5079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Girl Reading a Letter at an Open Window” by Jan Vermeer</a:t>
            </a:r>
            <a:br>
              <a:rPr sz="37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http://www.mystudios.com/vermeer/6/vermeer-girl-reading-let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818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irl with the Pearl Earring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Jan Verme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http://commons.wikimedia.org/wiki/Commons:Featured_picture_candidates/Image:Johannes_Vermeer_(1632-1675)_-_The_Girl_With_The_Pearl_Earring_(1665)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511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ve Letter” by Jan Vermee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l.ket.org/webmuseum/wm/paint/auth/verme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479600"/>
            <a:ext cx="4662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ild’s Bath” by Mary Cassat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rtic.edu/artaccess/AA_Impressionist/pages/IMP_6.shtml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76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 in Bed” by Mary Cassat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mystudios.com/women/abcde/cassatt-breakfast-189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ng Mother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metmuseum.org/toah/hd/cast/ho_29.100.4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Opera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bcgallery.com/C/cassatt/cassatt2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11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Dive” by Norman Rockwell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400" spc="-1" strike="noStrike" u="sng">
                <a:solidFill>
                  <a:srgbClr val="001ac5"/>
                </a:solidFill>
                <a:uFillTx/>
                <a:latin typeface="Arial"/>
              </a:rPr>
              <a:t>www.globalgallery.com/ enlarge/6098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52680" y="998640"/>
            <a:ext cx="38768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an in a Loge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bcgallery.com/C/cassatt/cassatt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3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” by Mary Cassat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en.wikipedia.org/wiki/Mary_Cass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15328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grant Mother” by Dorothea Lange</a:t>
            </a:r>
            <a:br>
              <a:rPr sz="4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cweb2.loc.gov/cgi-bin/query/i?pp/fsaall:@filreq(@field(NUMBER+@band(fsa+8b29516))+@field(COLLID+fsa)):displayType=1:m856sd=fsa:m856s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287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bama Farm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ontent.cdlib.org/ark:/13030/ft1b69n4r0/?layout=metadata&amp;brand=o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6798" r="4817" b="4818"/>
          <a:stretch/>
        </p:blipFill>
        <p:spPr>
          <a:xfrm>
            <a:off x="1143000" y="2097000"/>
            <a:ext cx="6705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less Family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mageenvision.com/free_picture/0003-0701-0621-020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46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bank Gas Station” 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asters-of-photography.com/L/lange/lange_gas_s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2201760"/>
            <a:ext cx="5791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e Jones’s Hands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mages.google.com/imgres?imgurl=http://content.cdlib.org/ark:/13030/ft7489n8zk/hi-res&amp;imgrefurl=http://content.cdlib.org/ark:/13030/ft7489n8zk%26brand%3Doac/&amp;usg=__7cBY7lAAloVanJsa2rknGKgf1KY=&amp;h=462&amp;w=616&amp;sz=48&amp;hl=en&amp;start=1&amp;um=1&amp;tbnid=8nLVX4uW90pa8M:&amp;tbnh=102&amp;tbnw=136&amp;prev=/images%3Fq%3Djake%2Bjones%2527s%2Bhands%2Bby%2Bdorothea%2Blange%26hl%3Den%26client%3Dsafari%26rls%3Den-us%26um%3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2230560"/>
            <a:ext cx="61722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tructures by I.M. Pei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buildings/Bank_of_Chin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f China Tower,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290520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228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 Wing of the National Gallery, Washington D.C.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buildings/East_Wing_National_Galle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cock Place, Boston, Mass.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Hancock_Plac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14180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the Life of a Boy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greatmodernpictures.com/ pbase1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2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Javits Convention Center, New York, NY</a:t>
            </a:r>
            <a:br>
              <a:rPr sz="3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Javits_Convention_Cent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93920" y="1143000"/>
            <a:ext cx="4560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 Museum of Art, Ithaca, NY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Johnson_Museum_of_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3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ational Center for Atmospheric Research -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ulder, Colorado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N_Center_for_Atmos_Researc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73915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yramide du Louvre - Paris, Fr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Pyramide_du_Louv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and Roll Hall of F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veland, Ohio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Rock_and_Roll_Hall_of_Fa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652760"/>
            <a:ext cx="69343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the Life of a Girl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http://www.normanrockwellvt.com/giclee_day_in_life_gir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879" t="6061" r="5625" b="4549"/>
          <a:stretch/>
        </p:blipFill>
        <p:spPr>
          <a:xfrm>
            <a:off x="2362320" y="1905120"/>
            <a:ext cx="46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prise” 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watsonswildlife.com/.../ index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722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Morning Breakfast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useumsyndicat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 item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p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?item=5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676520" y="1866960"/>
            <a:ext cx="62481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Chester” 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pafa.org/.../ PageIndex__2/colId__704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66294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Through Ice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rices4antiques.com/paintings/oil-on-board/Pippin-Horace-Oil-on-Wood-Board-signed-Fishing-Through-Ice-D996953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2255760"/>
            <a:ext cx="55627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sh” 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useumsyndicate.com/item.php?item=52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1476360"/>
            <a:ext cx="70106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1:56:44Z</dcterms:created>
  <dc:creator>Edgewood User</dc:creator>
  <dc:description/>
  <dc:language>en-US</dc:language>
  <cp:lastModifiedBy>Edgewood User</cp:lastModifiedBy>
  <dcterms:modified xsi:type="dcterms:W3CDTF">2009-08-31T16:43:32Z</dcterms:modified>
  <cp:revision>8</cp:revision>
  <dc:subject/>
  <dc:title>Artwork to Accompany Comprehension Connections</dc:title>
</cp:coreProperties>
</file>